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12.gif" ContentType="image/gif"/>
  <Override PartName="/ppt/media/image3.jpeg" ContentType="image/jpeg"/>
  <Override PartName="/ppt/media/image9.wmf" ContentType="image/x-wmf"/>
  <Override PartName="/ppt/media/image11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23.wmf" ContentType="image/x-wmf"/>
  <Override PartName="/ppt/media/image22.png" ContentType="image/png"/>
  <Override PartName="/ppt/media/image5.png" ContentType="image/png"/>
  <Override PartName="/ppt/media/image10.png" ContentType="image/png"/>
  <Override PartName="/ppt/media/image20.png" ContentType="image/png"/>
  <Override PartName="/ppt/media/image2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8.wmf" ContentType="image/x-wmf"/>
  <Override PartName="/ppt/media/image17.wmf" ContentType="image/x-wmf"/>
  <Override PartName="/ppt/media/image16.wmf" ContentType="image/x-wmf"/>
  <Override PartName="/ppt/media/image6.png" ContentType="image/png"/>
  <Override PartName="/ppt/media/image14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564F-E8DA-4DDC-94B9-7E3A3A1DE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839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280" y="3992040"/>
            <a:ext cx="8839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5F85-E909-448A-B8D1-4A972C32F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43135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800" y="1523880"/>
            <a:ext cx="43135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280" y="3992040"/>
            <a:ext cx="43135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800" y="3992040"/>
            <a:ext cx="43135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E36C-FB6A-4AAA-9195-3EC343080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28461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1000" y="1523880"/>
            <a:ext cx="28461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30080" y="1523880"/>
            <a:ext cx="28461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280" y="3992040"/>
            <a:ext cx="28461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1000" y="3992040"/>
            <a:ext cx="28461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30080" y="3992040"/>
            <a:ext cx="28461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FA47-EC6E-4E3C-8545-DD63E5D9A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C1E1C-22ED-4AC0-A68C-471D9B6CD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280" y="1523880"/>
            <a:ext cx="88394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FA4DB-7A0B-4270-8A88-9A1E63B31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8394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BB623-83C4-4876-BCE2-E878ED59F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43135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800" y="1523880"/>
            <a:ext cx="43135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17B2B-1AE1-4DF2-A8E5-0B2AE7332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9CC56-9B5F-4DBD-9B17-10943E25D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AEE31-2A7F-43D2-91E1-08F0779ED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43135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800" y="1523880"/>
            <a:ext cx="43135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280" y="3992040"/>
            <a:ext cx="43135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79B53-C777-486D-A656-891B3E31A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280" y="1523880"/>
            <a:ext cx="88394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42F9-46D9-4E7F-B9D8-BE179ECED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43135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800" y="1523880"/>
            <a:ext cx="43135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800" y="3992040"/>
            <a:ext cx="43135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B2EE4-0813-487D-AF46-54F1B225B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43135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800" y="1523880"/>
            <a:ext cx="43135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280" y="3992040"/>
            <a:ext cx="8839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7A1A6-AC96-442A-8AA6-8CB1C7377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839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280" y="3992040"/>
            <a:ext cx="8839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A819C-B9FF-475E-939C-E4D164EA0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43135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800" y="1523880"/>
            <a:ext cx="43135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280" y="3992040"/>
            <a:ext cx="43135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800" y="3992040"/>
            <a:ext cx="43135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E80DD-705B-435B-8F66-13F0ECBFF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28461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41000" y="1523880"/>
            <a:ext cx="28461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30080" y="1523880"/>
            <a:ext cx="28461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280" y="3992040"/>
            <a:ext cx="28461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41000" y="3992040"/>
            <a:ext cx="28461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30080" y="3992040"/>
            <a:ext cx="28461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0D20B-E16B-4814-86A5-AD634C150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52280" y="1523880"/>
            <a:ext cx="88394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8394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43135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800" y="1523880"/>
            <a:ext cx="43135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8394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9F65-62FD-46C3-8E63-EB90F498B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43135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81800" y="1523880"/>
            <a:ext cx="43135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52280" y="3992040"/>
            <a:ext cx="43135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43135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1800" y="1523880"/>
            <a:ext cx="43135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81800" y="3992040"/>
            <a:ext cx="43135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43135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1800" y="1523880"/>
            <a:ext cx="43135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52280" y="3992040"/>
            <a:ext cx="8839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839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52280" y="3992040"/>
            <a:ext cx="8839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43135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81800" y="1523880"/>
            <a:ext cx="43135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52280" y="3992040"/>
            <a:ext cx="43135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81800" y="3992040"/>
            <a:ext cx="43135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28461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141000" y="1523880"/>
            <a:ext cx="28461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30080" y="1523880"/>
            <a:ext cx="28461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52280" y="3992040"/>
            <a:ext cx="28461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141000" y="3992040"/>
            <a:ext cx="28461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130080" y="3992040"/>
            <a:ext cx="28461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52280" y="1523880"/>
            <a:ext cx="88394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8394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43135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800" y="1523880"/>
            <a:ext cx="43135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98FB-A191-4EED-B581-6DC4CD0B0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43135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81800" y="1523880"/>
            <a:ext cx="43135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43135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1800" y="1523880"/>
            <a:ext cx="43135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52280" y="3992040"/>
            <a:ext cx="43135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43135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81800" y="1523880"/>
            <a:ext cx="43135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81800" y="3992040"/>
            <a:ext cx="43135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43135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81800" y="1523880"/>
            <a:ext cx="43135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52280" y="3992040"/>
            <a:ext cx="8839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839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152280" y="3992040"/>
            <a:ext cx="8839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43135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81800" y="1523880"/>
            <a:ext cx="43135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52280" y="3992040"/>
            <a:ext cx="43135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81800" y="3992040"/>
            <a:ext cx="43135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28461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141000" y="1523880"/>
            <a:ext cx="28461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130080" y="1523880"/>
            <a:ext cx="28461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152280" y="3992040"/>
            <a:ext cx="28461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141000" y="3992040"/>
            <a:ext cx="28461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130080" y="3992040"/>
            <a:ext cx="28461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BAAA-B01D-40D1-A346-5102F6F3D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114B-4633-47F9-990B-BAF9D1E85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43135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800" y="1523880"/>
            <a:ext cx="43135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280" y="3992040"/>
            <a:ext cx="43135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8D4B-FCD1-4C43-85C0-1D8126078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43135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23880"/>
            <a:ext cx="43135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800" y="3992040"/>
            <a:ext cx="43135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AA81-8D81-4E44-AF74-3DBD90382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43135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23880"/>
            <a:ext cx="43135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280" y="3992040"/>
            <a:ext cx="8839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F564-00D9-49E3-B477-0338BA462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23880"/>
            <a:ext cx="88394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12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32412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1A258-29FF-4542-BD4D-7FB962AA8B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52280" y="1523880"/>
            <a:ext cx="88394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51920" y="632412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2412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857640" y="632412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C3802-6661-4DBF-93F9-449CF5AE50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52280" y="1523880"/>
            <a:ext cx="88394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152280" y="1523880"/>
            <a:ext cx="88394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Title 1" descr=""/>
          <p:cNvPicPr/>
          <p:nvPr/>
        </p:nvPicPr>
        <p:blipFill>
          <a:blip r:embed="rId1"/>
          <a:stretch/>
        </p:blipFill>
        <p:spPr>
          <a:xfrm>
            <a:off x="-274680" y="-146160"/>
            <a:ext cx="9272520" cy="267012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3962160" y="1447560"/>
            <a:ext cx="4724280" cy="247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chnolgy Education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Teach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 Mrs. Mart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09320"/>
            <a:ext cx="37339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sz="3600" spc="-1" strike="noStrike">
                <a:solidFill>
                  <a:srgbClr val="000000"/>
                </a:solidFill>
                <a:latin typeface="Times New Roman"/>
              </a:rPr>
              <a:t>ackground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ansition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ultiple </a:t>
            </a:r>
            <a:r>
              <a:rPr b="0" sz="3600" spc="-1" strike="noStrike">
                <a:solidFill>
                  <a:srgbClr val="000000"/>
                </a:solidFill>
                <a:latin typeface="Times New Roman"/>
              </a:rPr>
              <a:t>soun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br>
              <a:rPr sz="3600"/>
            </a:br>
            <a:r>
              <a:rPr b="0" sz="3600" spc="-1" strike="noStrike">
                <a:solidFill>
                  <a:srgbClr val="000000"/>
                </a:solidFill>
                <a:latin typeface="Times New Roman"/>
              </a:rPr>
              <a:t>graphic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rt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ie</a:t>
            </a:r>
            <a:br>
              <a:rPr sz="3600"/>
            </a:b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685800" y="3049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00"/>
                </a:solidFill>
                <a:latin typeface="Times New Roman"/>
              </a:rPr>
              <a:t>Create PowerPoi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 Slide Sh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6" descr="C:\Program Files\Microsoft Office\MEDIA\CAGCAT10\j0234687.gif"/>
          <p:cNvPicPr/>
          <p:nvPr/>
        </p:nvPicPr>
        <p:blipFill>
          <a:blip r:embed="rId1"/>
          <a:stretch/>
        </p:blipFill>
        <p:spPr>
          <a:xfrm>
            <a:off x="3957480" y="3067200"/>
            <a:ext cx="4883400" cy="2876400"/>
          </a:xfrm>
          <a:prstGeom prst="rect">
            <a:avLst/>
          </a:prstGeom>
          <a:ln w="0">
            <a:noFill/>
          </a:ln>
        </p:spPr>
      </p:pic>
      <p:pic>
        <p:nvPicPr>
          <p:cNvPr id="179" name="j0214098.wav" descr=""/>
          <p:cNvPicPr/>
          <p:nvPr/>
        </p:nvPicPr>
        <p:blipFill>
          <a:blip r:embed="rId2"/>
          <a:stretch/>
        </p:blipFill>
        <p:spPr>
          <a:xfrm>
            <a:off x="6248520" y="2286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4745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00"/>
                </a:solidFill>
                <a:latin typeface="Times New Roman"/>
              </a:rPr>
              <a:t>Create Microsoft Publisher documen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81" name="Picture 4" descr="j0215217"/>
          <p:cNvPicPr/>
          <p:nvPr/>
        </p:nvPicPr>
        <p:blipFill>
          <a:blip r:embed="rId1"/>
          <a:stretch/>
        </p:blipFill>
        <p:spPr>
          <a:xfrm>
            <a:off x="5943600" y="3962520"/>
            <a:ext cx="1976400" cy="2033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j0285636"/>
          <p:cNvPicPr/>
          <p:nvPr/>
        </p:nvPicPr>
        <p:blipFill>
          <a:blip r:embed="rId2"/>
          <a:stretch/>
        </p:blipFill>
        <p:spPr>
          <a:xfrm>
            <a:off x="380880" y="533520"/>
            <a:ext cx="1814760" cy="16048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j0238147"/>
          <p:cNvPicPr/>
          <p:nvPr/>
        </p:nvPicPr>
        <p:blipFill>
          <a:blip r:embed="rId3"/>
          <a:stretch/>
        </p:blipFill>
        <p:spPr>
          <a:xfrm>
            <a:off x="5029200" y="838080"/>
            <a:ext cx="2549520" cy="164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00"/>
                </a:solidFill>
                <a:latin typeface="Times New Roman"/>
              </a:rPr>
              <a:t>Save and retrieve information appropriately from personal folder or web 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85" name="Picture 4" descr="j0237458"/>
          <p:cNvPicPr/>
          <p:nvPr/>
        </p:nvPicPr>
        <p:blipFill>
          <a:blip r:embed="rId1"/>
          <a:stretch/>
        </p:blipFill>
        <p:spPr>
          <a:xfrm>
            <a:off x="5257800" y="4191120"/>
            <a:ext cx="2478240" cy="22190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j0285456"/>
          <p:cNvPicPr/>
          <p:nvPr/>
        </p:nvPicPr>
        <p:blipFill>
          <a:blip r:embed="rId2"/>
          <a:stretch/>
        </p:blipFill>
        <p:spPr>
          <a:xfrm>
            <a:off x="3809880" y="304920"/>
            <a:ext cx="1812960" cy="181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e and reinforce basic Internet skills</a:t>
            </a:r>
            <a:r>
              <a:rPr b="0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/>
          <p:cNvSpPr/>
          <p:nvPr/>
        </p:nvSpPr>
        <p:spPr>
          <a:xfrm>
            <a:off x="0" y="2743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336699"/>
                </a:solidFill>
                <a:latin typeface="Times New Roman"/>
              </a:rPr>
              <a:t>Learn about search engines on the Internet to narrow down a top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685800" y="83808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aho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2743200" y="53352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2743200" y="167652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oog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9"/>
          <p:cNvSpPr/>
          <p:nvPr/>
        </p:nvSpPr>
        <p:spPr>
          <a:xfrm>
            <a:off x="6477120" y="8380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skjee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6095880" y="43434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ogp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00"/>
                </a:solidFill>
                <a:latin typeface="Times New Roman"/>
              </a:rPr>
              <a:t>Investigate the validity of information presented in Web sites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00"/>
                </a:solidFill>
                <a:latin typeface="Times New Roman"/>
              </a:rPr>
              <a:t>Cite references from electronic sources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1453320" y="2743200"/>
            <a:ext cx="593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-MIT Program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azel Bisho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January 18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eb.mit.edu/invent/iow/bishop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533520" y="1828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6699"/>
                </a:solidFill>
                <a:latin typeface="Arial"/>
              </a:rPr>
              <a:t>Corp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4191120" y="1981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6699"/>
                </a:solidFill>
                <a:latin typeface="Arial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6172200" y="22096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6699"/>
                </a:solidFill>
                <a:latin typeface="Arial"/>
              </a:rPr>
              <a:t>Dat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336699"/>
                </a:solidFill>
                <a:latin typeface="Arial"/>
              </a:rPr>
              <a:t>acces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8"/>
          <p:cNvSpPr/>
          <p:nvPr/>
        </p:nvSpPr>
        <p:spPr>
          <a:xfrm>
            <a:off x="2514600" y="40384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ternet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9"/>
          <p:cNvSpPr/>
          <p:nvPr/>
        </p:nvSpPr>
        <p:spPr>
          <a:xfrm>
            <a:off x="1676520" y="220968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0"/>
          <p:cNvSpPr/>
          <p:nvPr/>
        </p:nvSpPr>
        <p:spPr>
          <a:xfrm>
            <a:off x="4572000" y="2286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1"/>
          <p:cNvSpPr/>
          <p:nvPr/>
        </p:nvSpPr>
        <p:spPr>
          <a:xfrm flipH="1">
            <a:off x="7543440" y="25909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2"/>
          <p:cNvSpPr/>
          <p:nvPr/>
        </p:nvSpPr>
        <p:spPr>
          <a:xfrm flipV="1">
            <a:off x="3352680" y="3504960"/>
            <a:ext cx="5335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Box 1"/>
          <p:cNvSpPr/>
          <p:nvPr/>
        </p:nvSpPr>
        <p:spPr>
          <a:xfrm>
            <a:off x="304920" y="380880"/>
            <a:ext cx="8229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Use free downloadable software and  web 2.0 tools  when appropriate to enhance learn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Box 1"/>
          <p:cNvSpPr/>
          <p:nvPr/>
        </p:nvSpPr>
        <p:spPr>
          <a:xfrm>
            <a:off x="3505320" y="457200"/>
            <a:ext cx="56386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Communicate &amp; collaborate using free downloadable software and web 2.0 tools when appropriate to enhance learn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4" descr=""/>
          <p:cNvPicPr/>
          <p:nvPr/>
        </p:nvPicPr>
        <p:blipFill>
          <a:blip r:embed="rId1"/>
          <a:srcRect l="22257" t="46875" r="42020" b="41668"/>
          <a:stretch/>
        </p:blipFill>
        <p:spPr>
          <a:xfrm>
            <a:off x="1828800" y="1752480"/>
            <a:ext cx="4648320" cy="8384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4" descr=""/>
          <p:cNvPicPr/>
          <p:nvPr/>
        </p:nvPicPr>
        <p:blipFill>
          <a:blip r:embed="rId2"/>
          <a:srcRect l="22257" t="61462" r="71891" b="21875"/>
          <a:stretch/>
        </p:blipFill>
        <p:spPr>
          <a:xfrm>
            <a:off x="228600" y="3200400"/>
            <a:ext cx="2133720" cy="3413160"/>
          </a:xfrm>
          <a:prstGeom prst="rect">
            <a:avLst/>
          </a:prstGeom>
          <a:ln w="0">
            <a:noFill/>
          </a:ln>
        </p:spPr>
      </p:pic>
      <p:sp>
        <p:nvSpPr>
          <p:cNvPr id="209" name="TextBox 9"/>
          <p:cNvSpPr/>
          <p:nvPr/>
        </p:nvSpPr>
        <p:spPr>
          <a:xfrm>
            <a:off x="3581280" y="35053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1"/>
          <p:cNvSpPr/>
          <p:nvPr/>
        </p:nvSpPr>
        <p:spPr>
          <a:xfrm>
            <a:off x="685800" y="228600"/>
            <a:ext cx="640080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cratch Animation Progr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http://scratch.MIT.e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Box 1"/>
          <p:cNvSpPr/>
          <p:nvPr/>
        </p:nvSpPr>
        <p:spPr>
          <a:xfrm>
            <a:off x="0" y="0"/>
            <a:ext cx="9144000" cy="71038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  <a:ea typeface="Arial"/>
              </a:rPr>
              <a:t>Visit my website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  <a:ea typeface="Arial"/>
              </a:rPr>
              <a:t>http://mrspmartin.wikispaces.c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rcRect l="0" t="0" r="10982" b="0"/>
          <a:stretch/>
        </p:blipFill>
        <p:spPr>
          <a:xfrm>
            <a:off x="0" y="1295280"/>
            <a:ext cx="9144000" cy="577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"/>
          <p:cNvPicPr/>
          <p:nvPr/>
        </p:nvPicPr>
        <p:blipFill>
          <a:blip r:embed="rId1"/>
          <a:srcRect l="343" t="42712" r="80090" b="43858"/>
          <a:stretch/>
        </p:blipFill>
        <p:spPr>
          <a:xfrm>
            <a:off x="1219320" y="0"/>
            <a:ext cx="4343400" cy="167652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6"/>
          <p:cNvSpPr/>
          <p:nvPr/>
        </p:nvSpPr>
        <p:spPr>
          <a:xfrm>
            <a:off x="1762200" y="1981080"/>
            <a:ext cx="331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audacity.sourceforge.ne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3" descr=""/>
          <p:cNvPicPr/>
          <p:nvPr/>
        </p:nvPicPr>
        <p:blipFill>
          <a:blip r:embed="rId2"/>
          <a:srcRect l="0" t="0" r="0" b="5281"/>
          <a:stretch/>
        </p:blipFill>
        <p:spPr>
          <a:xfrm>
            <a:off x="304920" y="2530440"/>
            <a:ext cx="8839080" cy="43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4"/>
          <p:cNvSpPr/>
          <p:nvPr/>
        </p:nvSpPr>
        <p:spPr>
          <a:xfrm>
            <a:off x="0" y="0"/>
            <a:ext cx="91440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6ecee"/>
                </a:solidFill>
                <a:latin typeface="Arial"/>
              </a:rPr>
              <a:t>Googl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– virtual 3 D map of Ear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http://www.google.com/earth/index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1"/>
          <a:srcRect l="0" t="0" r="5467" b="15627"/>
          <a:stretch/>
        </p:blipFill>
        <p:spPr>
          <a:xfrm>
            <a:off x="0" y="1447920"/>
            <a:ext cx="91440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5534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7" name="TextBox 3"/>
          <p:cNvSpPr/>
          <p:nvPr/>
        </p:nvSpPr>
        <p:spPr>
          <a:xfrm>
            <a:off x="304920" y="762120"/>
            <a:ext cx="7238880" cy="28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rtual “Real Time” Discussion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ww.todaysmeet.com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http://www.todaysmeet.com/parents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ww.wallwisher.co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The knowledge gained from these objectives will be used in student created projects and presentations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tudents will apply these principles to other subject areas. We want to make computers an enjoyable learning experience for all student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2514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00"/>
                </a:solidFill>
                <a:latin typeface="Times New Roman"/>
              </a:rPr>
              <a:t>Students are expected to follow the classroom expectations as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viously reviewed in class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220" name="Picture 4" descr="j0311866"/>
          <p:cNvPicPr/>
          <p:nvPr/>
        </p:nvPicPr>
        <p:blipFill>
          <a:blip r:embed="rId1"/>
          <a:stretch/>
        </p:blipFill>
        <p:spPr>
          <a:xfrm>
            <a:off x="3581280" y="4724280"/>
            <a:ext cx="1814760" cy="181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00"/>
                </a:solidFill>
                <a:latin typeface="Times New Roman"/>
              </a:rPr>
              <a:t>The following objectives will be covered this year: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30477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sz="4000" spc="-1" strike="noStrike">
                <a:solidFill>
                  <a:srgbClr val="336699"/>
                </a:solidFill>
                <a:latin typeface="Times New Roman"/>
              </a:rPr>
              <a:t>Complete </a:t>
            </a:r>
            <a:r>
              <a:rPr b="0" lang="en-US" sz="4000" spc="-1" strike="noStrike">
                <a:solidFill>
                  <a:srgbClr val="336699"/>
                </a:solidFill>
                <a:latin typeface="Times New Roman"/>
              </a:rPr>
              <a:t>T</a:t>
            </a:r>
            <a:r>
              <a:rPr b="0" sz="4000" spc="-1" strike="noStrike">
                <a:solidFill>
                  <a:srgbClr val="336699"/>
                </a:solidFill>
                <a:latin typeface="Times New Roman"/>
              </a:rPr>
              <a:t>yping </a:t>
            </a:r>
            <a:br>
              <a:rPr sz="4000"/>
            </a:br>
            <a:r>
              <a:rPr b="0" sz="4000" spc="-1" strike="noStrike">
                <a:solidFill>
                  <a:srgbClr val="336699"/>
                </a:solidFill>
                <a:latin typeface="Times New Roman"/>
              </a:rPr>
              <a:t>to a level later to be determined</a:t>
            </a:r>
            <a:br>
              <a:rPr sz="4000"/>
            </a:br>
            <a:endParaRPr b="0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64" name="j0289582.jpg" descr=""/>
          <p:cNvPicPr/>
          <p:nvPr/>
        </p:nvPicPr>
        <p:blipFill>
          <a:blip r:embed="rId1"/>
          <a:stretch/>
        </p:blipFill>
        <p:spPr>
          <a:xfrm>
            <a:off x="4489560" y="380880"/>
            <a:ext cx="3657600" cy="266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3" descr=""/>
          <p:cNvPicPr/>
          <p:nvPr/>
        </p:nvPicPr>
        <p:blipFill>
          <a:blip r:embed="rId1"/>
          <a:srcRect l="18336" t="17778" r="18336" b="17778"/>
          <a:stretch/>
        </p:blipFill>
        <p:spPr>
          <a:xfrm>
            <a:off x="304920" y="114480"/>
            <a:ext cx="8610480" cy="65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520" y="30477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00"/>
                </a:solidFill>
                <a:latin typeface="Times New Roman"/>
              </a:rPr>
              <a:t>Type, edit, spell-check, format, save, and print a Microsoft Word processing document following specific written directions.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ibbons will be explored and mastered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67" name="Picture 4" descr="MCj02325870000[1]"/>
          <p:cNvPicPr/>
          <p:nvPr/>
        </p:nvPicPr>
        <p:blipFill>
          <a:blip r:embed="rId1"/>
          <a:stretch/>
        </p:blipFill>
        <p:spPr>
          <a:xfrm>
            <a:off x="2666880" y="0"/>
            <a:ext cx="3381480" cy="26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1752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00"/>
                </a:solidFill>
                <a:latin typeface="Times New Roman"/>
              </a:rPr>
              <a:t>Create a Microsoft Excel spreadsheet entering values,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bels, </a:t>
            </a:r>
            <a:r>
              <a:rPr b="0" sz="3600" spc="-1" strike="noStrike">
                <a:solidFill>
                  <a:srgbClr val="000000"/>
                </a:solidFill>
                <a:latin typeface="Times New Roman"/>
              </a:rPr>
              <a:t>formulas, and creating a graph from data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169" name="Object 4"/>
          <p:cNvGraphicFramePr/>
          <p:nvPr/>
        </p:nvGraphicFramePr>
        <p:xfrm>
          <a:off x="3809880" y="3200400"/>
          <a:ext cx="4591080" cy="250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3200400"/>
                    <a:ext cx="45910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sign</a:t>
            </a:r>
            <a:r>
              <a:rPr b="0" sz="3600" spc="-1" strike="noStrike">
                <a:solidFill>
                  <a:srgbClr val="000000"/>
                </a:solidFill>
                <a:latin typeface="Times New Roman"/>
              </a:rPr>
              <a:t> a Microsoft Access database</a:t>
            </a:r>
            <a:br>
              <a:rPr sz="3600"/>
            </a:b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rcRect l="0" t="15627" r="39064" b="25004"/>
          <a:stretch/>
        </p:blipFill>
        <p:spPr>
          <a:xfrm>
            <a:off x="3048120" y="1295280"/>
            <a:ext cx="5867280" cy="480060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5"/>
          <p:cNvSpPr/>
          <p:nvPr/>
        </p:nvSpPr>
        <p:spPr>
          <a:xfrm>
            <a:off x="0" y="1523880"/>
            <a:ext cx="3352680" cy="36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ed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so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sear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e docu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create repor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00"/>
                </a:solidFill>
                <a:latin typeface="Times New Roman"/>
              </a:rPr>
              <a:t>Create slides for a Microsoft PowerPoint presentation using Internet resources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75" name="Picture 4" descr="j0232092"/>
          <p:cNvPicPr/>
          <p:nvPr/>
        </p:nvPicPr>
        <p:blipFill>
          <a:blip r:embed="rId1"/>
          <a:stretch/>
        </p:blipFill>
        <p:spPr>
          <a:xfrm>
            <a:off x="3733920" y="3809880"/>
            <a:ext cx="2511360" cy="2406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1T02:37:39Z</dcterms:created>
  <dc:creator>Patricia O Martin</dc:creator>
  <dc:description/>
  <dc:language>en-US</dc:language>
  <cp:lastModifiedBy>Patricia Martin</cp:lastModifiedBy>
  <dcterms:modified xsi:type="dcterms:W3CDTF">2012-08-19T21:48:05Z</dcterms:modified>
  <cp:revision>1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885651033</vt:lpwstr>
  </property>
</Properties>
</file>